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632-3C95-417D-9874-3C8AC66E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7D7-6C1F-48E5-83FA-CAD7719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889-5D77-40A4-8891-68EA495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051-E08F-405E-9A70-FE390476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7B6-59A9-47C5-854C-B089304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81C-4A08-48F0-9EB3-C3E6106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E11-35AB-4CEE-BF56-DB4988A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ABA-B145-4A35-BEFC-80FEF33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961-9F87-4D80-91D3-B2FB767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FE7-C627-4B4D-9BDD-EC98EAE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430-E5C4-4DF0-82B2-044CD80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A68-62B1-456D-8320-C17B282E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3B1-BA6E-41AF-8D96-0DC3D15AC9C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89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7058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813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6782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23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2520"/>
            <a:ext cx="86072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28680"/>
            <a:ext cx="8318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77840"/>
            <a:ext cx="81360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84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74920" y="189000"/>
            <a:ext cx="4867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40100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481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690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498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35000"/>
            <a:ext cx="86407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19480" y="115920"/>
            <a:ext cx="42559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889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866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60280"/>
            <a:ext cx="8889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06:56:05Z</dcterms:created>
  <dc:creator>s</dc:creator>
  <dc:description/>
  <dc:language>en-US</dc:language>
  <cp:lastModifiedBy>Daneliuc</cp:lastModifiedBy>
  <dcterms:modified xsi:type="dcterms:W3CDTF">2009-06-03T10:18:03Z</dcterms:modified>
  <cp:revision>6</cp:revision>
  <dc:subject/>
  <dc:title>Diapositiva 1</dc:title>
</cp:coreProperties>
</file>